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FCE-8912-42EE-8E24-652A3220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4F3-AE0F-44FE-A2AC-DB824A55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FFE-9646-4EF1-BD4B-20FC7113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469-8A3F-4E44-A570-1D153554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B97C-5334-41A7-A3F6-1C7D0591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34D0-E0C8-48BD-8617-D977A892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1B1A-5ECD-4F14-8649-E0DCAE8C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FECF-3BDA-44A7-8FEA-B87EF3AC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ED89-A557-4865-9F35-9C1B1891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5110-F19C-4F45-B1CE-233D0E74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FD0A-89FA-47D3-A829-86C21B31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C52-91E2-4F06-B8C5-5F1DC8CE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F158-E695-4E4D-8B88-93CCD617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7347-3426-481F-AEA5-86BA5AF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CA69-3652-4469-90F6-69A9877A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FEBD-39D5-4C25-AAAE-AAE9DDC6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84AA-406D-4FF8-BCEB-5BF1BF7D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DC4-6423-43C4-8EA4-9172177D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289-CAC4-4B45-A9C3-F077B86F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1AB-56A9-4A9F-A63F-4E949923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65D-E328-4AD8-8AA6-BC5673D5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ABA-E218-448C-BD94-31BFC799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BAE-AA73-4FD0-A7EF-5395FB93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12C-383C-4565-83C6-B2D1D58D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54C6-946A-42C4-AD99-1FE2312C193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5DF5-A306-4871-8F50-F99A0321C35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3880" y="2819520"/>
            <a:ext cx="6248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ZI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CA DEEL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ofdstuk 3: Communic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el tekstuele verbetering zijn aangebra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egrip Syntax is beter uitgewerkt; link met 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deelte over robotica wordt praktischer gemaakt door ‘motion planning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Hoofdstuk 4: </a:t>
            </a:r>
            <a:br>
              <a:rPr sz="3200"/>
            </a:b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Computersystemen, netwerken en randapparatuur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t was Hoofdstuk 5 (Hardw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oudelijk is dit hoofdstuk niet wezenlijk verande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 zijn enkele kleine praktische opdrachten toegevoegd: onder andere peer-netwer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ofdstuk 5: Besturingssystem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t was Hoofdstuk 6 (besturingssystem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heel herzien, nu is het hoofdstuk ko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at uit van eisen aan besturingssyste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vat een practicum MS-DOS en een vergelijking met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el technische details, die eerst aan het hoofdstuk stonden, zijn nu weggela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Hoofdstuk 6: Algoritmen en programma’s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Hoofdstuk 7: Interactieve programma’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t in een integratie van het oude H4 met Java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aardoor is het een totaal nieuw hoofdstuk gewor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SD’s zijn gebl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ofdstuk 7 bestaat voor een groot deel uit verdiepingsst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aardoor zijn praktische opdrachten op elk niveau mogeli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Hoofdstuk 8: Algoritmen en computer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t is een hoofdstuk, waarin we dieper op de achtergronden van het programmeren in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is vergelijkbaar met het oude hoofdstuk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hoofdstuk biedt gedeeltelijk een alternatief voor Java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aktische Opdracht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6ffff"/>
                </a:solidFill>
                <a:latin typeface="Times New Roman"/>
              </a:rPr>
              <a:t>DRIE PO’S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6ff33"/>
                </a:solidFill>
                <a:latin typeface="Times New Roman"/>
              </a:rPr>
              <a:t>website ontwerpen (bij H 1 t/m 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xamendossier in de vorm van een web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6ff33"/>
                </a:solidFill>
                <a:latin typeface="Times New Roman"/>
              </a:rPr>
              <a:t>hardware en besturingssystemen ( bij H 4 en 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en opdracht met twee standaardinvulling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ardware advies geven; - Linux (voor gevorderde leerlin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6ff33"/>
                </a:solidFill>
                <a:latin typeface="Times New Roman"/>
              </a:rPr>
              <a:t>afsluitende opdracht programmeren (bij H 6 t/m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ok hier is de invulling open, maar wordt een standaard invulling gegeven: een opdracht in Java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eerlingen mogen ook een andere opdracht kiezen, bijv. als ze vel dieper op programmeren zijn ingega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D R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66ff33"/>
                </a:solidFill>
                <a:latin typeface="Times New Roman"/>
              </a:rPr>
              <a:t>Deze bevat zeer veel materia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ragrammatuur (Java, Irfanview, Motion Planning, Fil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tml: links en applets (bijv. kleurenmeng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ocumenten, die het leerproces ondersteunen (aanpak, jargonlij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broncodes van voorbeeldprogramma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xcel- docum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cces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verig materia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el van de video voor Informatica dee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Prijzen en ISBN’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66ff33"/>
                </a:solidFill>
                <a:latin typeface="Times New Roman"/>
              </a:rPr>
              <a:t>De herziene versie van Informatica deel 1 kos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048120"/>
            <a:ext cx="7239240" cy="21891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66ffff"/>
                </a:solidFill>
                <a:uFillTx/>
                <a:latin typeface="Times New Roman"/>
              </a:rPr>
              <a:t>Titel:</a:t>
            </a:r>
            <a:r>
              <a:rPr b="1" lang="nl-NL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66ffff"/>
                </a:solidFill>
                <a:latin typeface="Times New Roman"/>
              </a:rPr>
              <a:t>      </a:t>
            </a:r>
            <a:r>
              <a:rPr b="1" i="1" lang="nl-NL" sz="2800" spc="-1" strike="noStrike" u="sng">
                <a:solidFill>
                  <a:srgbClr val="66ffff"/>
                </a:solidFill>
                <a:uFillTx/>
                <a:latin typeface="Times New Roman"/>
              </a:rPr>
              <a:t>ISBN:</a:t>
            </a:r>
            <a:r>
              <a:rPr b="1" i="1" lang="nl-NL" sz="2800" spc="-1" strike="noStrike" u="sng">
                <a:solidFill>
                  <a:srgbClr val="66ffff"/>
                </a:solidFill>
                <a:uFillTx/>
                <a:latin typeface="Times New Roman"/>
              </a:rPr>
              <a:t>	</a:t>
            </a:r>
            <a:r>
              <a:rPr b="1" i="1" lang="nl-NL" sz="2800" spc="-1" strike="noStrike" u="sng">
                <a:solidFill>
                  <a:srgbClr val="66ffff"/>
                </a:solidFill>
                <a:uFillTx/>
                <a:latin typeface="Times New Roman"/>
              </a:rPr>
              <a:t>	</a:t>
            </a:r>
            <a:r>
              <a:rPr b="1" i="1" lang="nl-NL" sz="2800" spc="-1" strike="noStrike" u="sng">
                <a:solidFill>
                  <a:srgbClr val="66ffff"/>
                </a:solidFill>
                <a:uFillTx/>
                <a:latin typeface="Times New Roman"/>
              </a:rPr>
              <a:t>Prij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Theorieboek 1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       90 5766 950 1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fl. 47,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Werkboek 1 (incl cd rom)  90 5766 951 x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fl. 27,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Docentenhandleiding 1       90 6053 006 3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66ffff"/>
                </a:solidFill>
                <a:latin typeface="Times New Roman"/>
              </a:rPr>
              <a:t>n.n.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orie- en werkbo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2e versie Informatica theorie in apart bo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ak - mn. gebruik van computers- verandert snel, maar theorie erachter is stabi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heorieboek kan dus lang m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boek dat leertaken beschrijft: opdrachten voor het leveren van de theorie, praktische opdrachten, projec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boek zal sneller veranderen om aan te passen aan de nieuwe ontwikkeling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 termijn: werkSITE?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oriebo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idige boek: opdrachten eruit en stukken erbij voor     diepgang en differentiatiemogelijkhed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eft goed beeld van toekomstige theoriebo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 veel plaatsen ook lokale verbetering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orieboek werkt als bronnenboek: geeft materiaal bij de ‘leertaken’ in het werkbo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orieboek past in het boekenfond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rkboek 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werkboek is leidend: het bevat leertaken die samen het vak bepalen; mogelijke keuz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erschillende paden door het v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keuze-opdrach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erdieping ja/n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aken verwijzen naar bronnen in Theoriebo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evat ook de zaken die snel verander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cd rom met software en materia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erwijzingen naar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handleiding voor de gebruikt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voudige uitgave, voor eenmalig gebrui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rkboek 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ertaken met min of meer vaste indel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iëntatie op de leerta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palen van de aanp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itvoeren van de leerta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lue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rkboek I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schillende soorten leertaken in het werkboe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werken van de theor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aktische toepass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en of grote praktische opdrachten, die uitstijgen boven de theorie in een enkel hoofdstu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euzetaken die op een onderwerpdiepgang aanbre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deling van de hoofdstukk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herziene versie van Informatica deel 1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1: Informatiesyste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2: Informatie digita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3: Communica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4: Computersystemen, netwerken en randapparatu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5: Besturingssyste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6: Algoritmen en programma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7: Interactieve programma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8: Algoritmen en compu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eranderingen per Hoofdstu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66ffff"/>
                </a:solidFill>
                <a:latin typeface="Times New Roman"/>
              </a:rPr>
              <a:t>Hoofdstuk 1: Informatiesyste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leiding is verdwe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deelte over reisplanner veel sterker gericht op ontwerpen. Bijv. deel van de spoorkaart is geïmplementeerd als database in Access; route zoeken d.m.v. query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erkere vooruitblik op het programmeren door uitwerking van algoritmen (bijv. demo van algoritme van Dijkstra, eerste PS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aardoor geeft het hoofdstuk een beter beeld van van er komen ga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ofdstuk 2: Informatie Digita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evat geen grote inhoudelijke wijzigi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el praktischer door toevoeging van digitaal materiaal; excel, ppt, app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igitaal lesmateriaal uitgebreid (video, flas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09:19:06Z</dcterms:created>
  <dc:creator>paul schuitman</dc:creator>
  <dc:description/>
  <dc:language>en-US</dc:language>
  <cp:lastModifiedBy>FPI</cp:lastModifiedBy>
  <dcterms:modified xsi:type="dcterms:W3CDTF">2001-04-12T17:04:41Z</dcterms:modified>
  <cp:revision>1</cp:revision>
  <dc:subject/>
  <dc:title>Geen diatitel</dc:title>
</cp:coreProperties>
</file>