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38240" y="720720"/>
            <a:ext cx="4813200" cy="36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9080" y="4572000"/>
            <a:ext cx="5050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A5C5-C538-4ECF-B838-9D81A52D8D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03824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9080" y="4572000"/>
            <a:ext cx="5050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de opleiding komt het hele spectrum dat zonet is uitgelegd aan bod in de eerste drie leerjaren: de propedeuse en de basisopleiding. (Of P- en K-fas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de K-fase kan de student daar verder nog een eigen accent aangegev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software engineering (‘information engineering’; komen tot functioneel ontw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technische informatica (denk aan b.v. embedded systemen; ingebouwde softwa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cti (het aan de man brengen van  ….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telematica (student parttime werkt in bedrijf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03824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9080" y="4572000"/>
            <a:ext cx="5050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j Mens&amp;Informatica zijn er binnen het leerplan verder geen specifieke richtingen mogelij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03824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9080" y="4572000"/>
            <a:ext cx="5050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 elke kwartaalperiode maakt de student een studieplan voor de volgende periode, en een (eventueel aangepast)  lange termijn studiep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 ontstaat individueel studiep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03824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9080" y="4572000"/>
            <a:ext cx="5050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t zijn voorbeelden van mogelijke pa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03824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9080" y="4572000"/>
            <a:ext cx="5050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ze en de volgende sheets zijn meer ter opvul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03824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9080" y="4572000"/>
            <a:ext cx="5050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opleiding Bedrijfskundige Informatica komt in deze voorlichtingssheets verder niet aan de or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03824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9080" y="4572000"/>
            <a:ext cx="5050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omgaan met de computer en het omgaan met software is maar een beperkt deel  van de bezigheden van een informati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3824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9080" y="4572000"/>
            <a:ext cx="5050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en complete fasering, die in de volgende slides stap voor stap wordt uitgeleg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en afgestudeerde Hogere Informatica of Mens&amp;Informatica is in principe deskundig op alle gebieden die in deze fasering sta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03824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9080" y="4572000"/>
            <a:ext cx="5050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en zogenaamde informatie-analyse / veranderingsanalyse. Wat wil de klant nou eigenlijk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het leerplan is dit thema onder andere in de volgende modulen (vakken) aan de or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formatieanalyse, systeemontwikkeling, communicat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03824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9080" y="4572000"/>
            <a:ext cx="5050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en (mogelijke) oplossing voor de k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t meest moeilijke maar ook meest creatieve aspect dat door de informaticus wordt uitgewerkt. Vergelijk het met het werk van een architectect in de bou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ok in de informatica wordt gesproken van de architectuur van een syste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langrijke modulen in dit kad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steemontwikkeling, software engineering, computersyst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03824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9080" y="4572000"/>
            <a:ext cx="5050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t realiseren van het syste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ervoor zijn in het leerplan de volgende modulen (vakken) representatie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grammeren (in Delphi en/of JAVA en/of C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tabases, ontwikkelgereedschappen, communicat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3824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9080" y="4572000"/>
            <a:ext cx="5050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 inbedding in de organisatie waar het systeem gebruikt moet gaan wo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resentatieve modul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stuurlijke informatiekunde, netwerken, gebruikersondersteu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03824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9080" y="4572000"/>
            <a:ext cx="5050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 nazorg. ‘Maintenanc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CDDB-2093-41E6-93AB-5B30CA82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6954-C899-47C2-8DB2-120E4DFC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4E4A-3DA1-4B70-8141-96D6E026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BD78-B414-47D7-9682-EB49AC63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237-0DB0-49E9-8489-E11D2253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5FB0-C553-48B5-A6D9-65DB0103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3DED-BC01-4AE5-9133-8A8D83B3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823C-D7BE-4FAF-91EC-FEA1EF15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5F2E-4510-4790-A091-9D574633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95F8-5473-40E4-BE43-8023EFAF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AD05-D57C-46C0-9FBC-67C83950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B8E3-0C33-4476-9142-A09ACDDE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05120" y="624852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DC4D-9554-4E5D-A816-43BBA2F19C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66ff"/>
                </a:solidFill>
                <a:latin typeface="Times New Roman"/>
              </a:rPr>
              <a:t>De onderwerpen die achtereenvolgens besproken word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25400" y="5791320"/>
            <a:ext cx="1325520" cy="803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14400" y="1752480"/>
            <a:ext cx="7543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ontys Hogeschool Inform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vakgebied Inform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 inhoud van het onderwij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 organisatie van het onderwij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oel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90720" y="1231920"/>
            <a:ext cx="6006960" cy="4254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2286000"/>
            <a:ext cx="6019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4191120"/>
            <a:ext cx="6019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23240" y="1231920"/>
            <a:ext cx="1193760" cy="4254480"/>
          </a:xfrm>
          <a:prstGeom prst="rect">
            <a:avLst/>
          </a:prstGeom>
          <a:solidFill>
            <a:srgbClr val="00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66ff"/>
                </a:solidFill>
                <a:latin typeface="Times New Roman"/>
              </a:rPr>
              <a:t>Globale schets van de inhoud van het onderwijs</a:t>
            </a:r>
            <a:br>
              <a:rPr sz="3200"/>
            </a:br>
            <a:r>
              <a:rPr b="0" lang="nl-NL" sz="3200" spc="-1" strike="noStrike">
                <a:solidFill>
                  <a:srgbClr val="cc66ff"/>
                </a:solidFill>
                <a:latin typeface="Times New Roman"/>
              </a:rPr>
              <a:t>Hogere Informa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4495680"/>
            <a:ext cx="171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ped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5400" y="44956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5400" y="33526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5400" y="25146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5400" y="14828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2209680"/>
            <a:ext cx="46292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asisopleiding met keuzericht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oftware engineer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echnische informatic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ommercieel technische richt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f (duaal) telem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6033240" y="2558160"/>
            <a:ext cx="3170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ttitudevorming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asisvaardighe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990720" y="320040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44480" y="5764320"/>
            <a:ext cx="1325520" cy="803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86000" y="1295280"/>
            <a:ext cx="4038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nderzoeksproject, afstuderen en keuze va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90720" y="1231920"/>
            <a:ext cx="6006960" cy="4254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286000"/>
            <a:ext cx="6019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4191120"/>
            <a:ext cx="6019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23240" y="1231920"/>
            <a:ext cx="1193760" cy="4254480"/>
          </a:xfrm>
          <a:prstGeom prst="rect">
            <a:avLst/>
          </a:prstGeom>
          <a:solidFill>
            <a:srgbClr val="00cc99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66ff"/>
                </a:solidFill>
                <a:latin typeface="Times New Roman"/>
              </a:rPr>
              <a:t>Globale schets van de inhoud van het onderwijs</a:t>
            </a:r>
            <a:br>
              <a:rPr sz="3200"/>
            </a:br>
            <a:r>
              <a:rPr b="0" lang="nl-NL" sz="3200" spc="-1" strike="noStrike">
                <a:solidFill>
                  <a:srgbClr val="cc66ff"/>
                </a:solidFill>
                <a:latin typeface="Times New Roman"/>
              </a:rPr>
              <a:t>Mens en Informa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4495680"/>
            <a:ext cx="171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ped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5400" y="44956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5400" y="33526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5400" y="25146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00" y="14828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2666880"/>
            <a:ext cx="5105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asisoplei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(geen keuzerichtin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6033240" y="2558160"/>
            <a:ext cx="3170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ttitudevorming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asisvaardighe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990720" y="320040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19280" y="5757840"/>
            <a:ext cx="1325520" cy="803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86000" y="1295280"/>
            <a:ext cx="4038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nderzoeksproject, afstuderen en keuze va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22860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66ff"/>
                </a:solidFill>
                <a:latin typeface="Times New Roman"/>
              </a:rPr>
              <a:t>Specifieke aspecten van de opleiding</a:t>
            </a:r>
            <a:br>
              <a:rPr sz="3200"/>
            </a:br>
            <a:r>
              <a:rPr b="0" lang="nl-NL" sz="3200" spc="-1" strike="noStrike">
                <a:solidFill>
                  <a:srgbClr val="cc66ff"/>
                </a:solidFill>
                <a:latin typeface="Times New Roman"/>
              </a:rPr>
              <a:t>Mens en Informatica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nl-NL" sz="2400" spc="-1" strike="noStrike">
                <a:solidFill>
                  <a:srgbClr val="cc66ff"/>
                </a:solidFill>
                <a:latin typeface="Times New Roman"/>
              </a:rPr>
              <a:t>  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ontwikkeling van informatiesystemen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eer het betrekken van toekomstige gebruikers dan het programmeren zelf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opleiden en ondersteunen gebruikers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idactiek, maken van handleidingen, multimedia producties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&gt;  specialist op het gebied van gebruiker-computerinteractie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echnologie, psychologie en ergonomi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19280" y="5757840"/>
            <a:ext cx="1325520" cy="80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820800" y="388800"/>
          <a:ext cx="7157880" cy="5378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0800" y="388800"/>
                    <a:ext cx="7157880" cy="537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19280" y="5757840"/>
            <a:ext cx="1325520" cy="80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762120" y="47520"/>
          <a:ext cx="7845480" cy="5878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7520"/>
                    <a:ext cx="7845480" cy="58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19280" y="5757840"/>
            <a:ext cx="1325520" cy="80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2280" y="228600"/>
            <a:ext cx="8610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cc66ff"/>
                </a:solidFill>
                <a:latin typeface="Times New Roman"/>
              </a:rPr>
              <a:t>Voordelen van een modulair syste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91440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student is met een beperkt aantal vakken tegelijk bez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s voldoende blijft voldoend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nvoldoenden kunnen snel worden overgeda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igen studieplanning en t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inig tijdverlies als een moduul eens niet goed ga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chter 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eerste jaar intensievere begeleiding door men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ter meer eigen verantwoordelijkheid voor het studieverloop dan in een traditioneel onderwijssyste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19280" y="5757840"/>
            <a:ext cx="1325520" cy="80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228600"/>
            <a:ext cx="86108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cc66ff"/>
                </a:solidFill>
                <a:latin typeface="Times New Roman"/>
              </a:rPr>
              <a:t>Toelating / geschiktheid profielen</a:t>
            </a:r>
            <a:br>
              <a:rPr sz="4000"/>
            </a:br>
            <a:br>
              <a:rPr sz="4000"/>
            </a:br>
            <a:r>
              <a:rPr b="1" lang="nl-NL" sz="2400" spc="-1" strike="noStrike">
                <a:solidFill>
                  <a:srgbClr val="cc66ff"/>
                </a:solidFill>
                <a:latin typeface="Times New Roman"/>
              </a:rPr>
              <a:t>         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E&amp;M             N&amp;G        N&amp;T      C&amp;M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HI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Wsk a -&gt;b      geschikt     geschikt    Wsk a -&gt;b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HI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geschikt         geschikt     geschikt    Wsk 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19280" y="5757840"/>
            <a:ext cx="1325520" cy="80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1600200"/>
            <a:ext cx="6400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04640" indent="-4046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nkele beroepen die je na de opleiding z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unnen uitoefenen zij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netwerkbeheerder (H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ntwerper user-interfaces  (M&amp;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ysteemontwerper (HI en M&amp;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formatieanalist (HI en M&amp;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28600"/>
            <a:ext cx="5638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66ff"/>
                </a:solidFill>
                <a:latin typeface="Times New Roman"/>
              </a:rPr>
              <a:t>Beroepen (1)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2230560" cy="40813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19280" y="5757840"/>
            <a:ext cx="1325520" cy="80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0720" y="304920"/>
            <a:ext cx="5943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66ff"/>
                </a:solidFill>
                <a:latin typeface="Times New Roman"/>
              </a:rPr>
              <a:t>Beroepen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aken van internettoepassingen (M&amp;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ntwerper electronische handleidingen (M&amp;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sultant bij veranderingsprocessen (M&amp;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ojectleider automatiseringsprojecten (H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imes New Roman"/>
              </a:rPr>
              <a:t>adviseur interne controle / beveiliging  (HI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imes New Roman"/>
              </a:rPr>
              <a:t>sales manager (CTI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19280" y="5757840"/>
            <a:ext cx="1325520" cy="803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913440" y="2133720"/>
            <a:ext cx="2230560" cy="408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2516040" y="2484360"/>
          <a:ext cx="364356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6040" y="2484360"/>
                    <a:ext cx="36435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609480" y="533520"/>
            <a:ext cx="77724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Times New Roman"/>
              </a:rPr>
              <a:t>Succes bij het maken</a:t>
            </a:r>
            <a:br>
              <a:rPr sz="5400"/>
            </a:br>
            <a:r>
              <a:rPr b="0" lang="nl-NL" sz="5400" spc="-1" strike="noStrike">
                <a:solidFill>
                  <a:srgbClr val="000000"/>
                </a:solidFill>
                <a:latin typeface="Times New Roman"/>
              </a:rPr>
              <a:t>van jouw keuze !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19280" y="5757840"/>
            <a:ext cx="1325520" cy="80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0488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36720" y="457200"/>
            <a:ext cx="3187800" cy="958680"/>
          </a:xfrm>
          <a:prstGeom prst="rect">
            <a:avLst/>
          </a:prstGeom>
          <a:solidFill>
            <a:srgbClr val="33cccc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65320" y="457200"/>
            <a:ext cx="27846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ontys Hoge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form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7040" y="2895480"/>
            <a:ext cx="2314440" cy="1014480"/>
          </a:xfrm>
          <a:prstGeom prst="rect">
            <a:avLst/>
          </a:prstGeom>
          <a:solidFill>
            <a:srgbClr val="00cc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drijfskundi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forma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593360" y="1447920"/>
            <a:ext cx="2514600" cy="144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08320" y="1447920"/>
            <a:ext cx="0" cy="144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08320" y="1447920"/>
            <a:ext cx="2438640" cy="144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17960" y="2895480"/>
            <a:ext cx="2314440" cy="1014480"/>
          </a:xfrm>
          <a:prstGeom prst="rect">
            <a:avLst/>
          </a:prstGeom>
          <a:solidFill>
            <a:srgbClr val="00cc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g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forma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1160" y="2895480"/>
            <a:ext cx="2314440" cy="1014480"/>
          </a:xfrm>
          <a:prstGeom prst="rect">
            <a:avLst/>
          </a:prstGeom>
          <a:solidFill>
            <a:srgbClr val="00cc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ens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forma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30080" y="5791320"/>
            <a:ext cx="1325880" cy="80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3133800" y="3887640"/>
          <a:ext cx="2230200" cy="173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3800" y="3887640"/>
                    <a:ext cx="2230200" cy="17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00200" y="76212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66ff"/>
                </a:solidFill>
                <a:latin typeface="Times New Roman"/>
              </a:rPr>
              <a:t>Wat doet een </a:t>
            </a:r>
            <a:br>
              <a:rPr sz="4000"/>
            </a:br>
            <a:r>
              <a:rPr b="0" lang="nl-NL" sz="4000" spc="-1" strike="noStrike">
                <a:solidFill>
                  <a:srgbClr val="cc66ff"/>
                </a:solidFill>
                <a:latin typeface="Times New Roman"/>
              </a:rPr>
              <a:t>Informatica deskundi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057400"/>
            <a:ext cx="7696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leggen met men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rachten te weten te komen wat ze wi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denken van een oplossing voor hun probl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chrijven van een computerprogramma voor het oplossen van het probl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uitleg geven over het gebruik van het progr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rlenen van naz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5746680"/>
            <a:ext cx="1325520" cy="803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0488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4316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9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17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762120"/>
            <a:ext cx="823608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66ff"/>
                </a:solidFill>
                <a:latin typeface="Times New Roman"/>
              </a:rPr>
              <a:t>Het vakgebied Informatica: </a:t>
            </a:r>
            <a:br>
              <a:rPr sz="4000"/>
            </a:br>
            <a:r>
              <a:rPr b="0" lang="nl-NL" sz="4000" spc="-1" strike="noStrike">
                <a:solidFill>
                  <a:srgbClr val="cc66ff"/>
                </a:solidFill>
                <a:latin typeface="Times New Roman"/>
              </a:rPr>
              <a:t>informatiesyste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0720" y="25146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61880" indent="-46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aly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unctionele  en technische specifica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wikkelen en tes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mplement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houd en beh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4120" y="4267080"/>
            <a:ext cx="3809880" cy="1587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19280" y="5764320"/>
            <a:ext cx="1325520" cy="80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0488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4316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9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17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4760" y="628560"/>
            <a:ext cx="6788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66ff"/>
                </a:solidFill>
                <a:latin typeface="Times New Roman"/>
              </a:rPr>
              <a:t>Analyse </a:t>
            </a:r>
            <a:br>
              <a:rPr sz="4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129528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stleggen wat er moet k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6080" indent="-3988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e is de werkwijze 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6080" indent="-3988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e wordt de werkwijze stra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 moet er verander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 zijn de gevolgen vo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t bedrij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477040" y="2593800"/>
          <a:ext cx="3636720" cy="36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7040" y="2593800"/>
                    <a:ext cx="3636720" cy="36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19280" y="5757840"/>
            <a:ext cx="1325520" cy="80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457200"/>
            <a:ext cx="6553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66ff"/>
                </a:solidFill>
                <a:latin typeface="Times New Roman"/>
              </a:rPr>
              <a:t>Functionele  en technische specifica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228600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at moet het nieuwe systeem allemaal doen? Welke programma’s en welke gegeve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e gaat het nieuwe systeem dat do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lke hardware is er nod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25400" y="5764320"/>
            <a:ext cx="1325520" cy="80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2666880"/>
            <a:ext cx="3809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ogramm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atabase organis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ocument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27640" y="3124080"/>
            <a:ext cx="3809880" cy="3252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79320" y="228600"/>
            <a:ext cx="678816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66ff"/>
                </a:solidFill>
                <a:latin typeface="Times New Roman"/>
              </a:rPr>
              <a:t>Ontwikkelen en tes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19280" y="5757840"/>
            <a:ext cx="1325520" cy="80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8560" y="2895480"/>
            <a:ext cx="2658960" cy="3733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79320" y="228600"/>
            <a:ext cx="610236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66ff"/>
                </a:solidFill>
                <a:latin typeface="Times New Roman"/>
              </a:rPr>
              <a:t>Implementer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36560" y="5757840"/>
            <a:ext cx="1325520" cy="803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3520" y="1295280"/>
            <a:ext cx="5715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orgen voor opleidingen van de gebrui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orgen dat iedereen de juiste programma’s en gegevens krijg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orgen dat alle gebruikers de juiste apparatuur heb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org voor de beveili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ealisatie van de veranderingen in de organis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79320" y="228600"/>
            <a:ext cx="6178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66ff"/>
                </a:solidFill>
                <a:latin typeface="Times New Roman"/>
              </a:rPr>
              <a:t>Onderhoud en behe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752480"/>
            <a:ext cx="5105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elpen bij vr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oblemen doorgeven aan ontwikkela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ventariseer aanvullende wen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werken nieuwe gebrui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ijhouden document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809880" cy="3559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41240" y="5764320"/>
            <a:ext cx="1325520" cy="80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geschool Informatica</a:t>
            </a: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3:13:11Z</dcterms:created>
  <dc:creator>J. Boonen</dc:creator>
  <dc:description/>
  <dc:language>en-US</dc:language>
  <cp:lastModifiedBy>Frans Peeters</cp:lastModifiedBy>
  <cp:lastPrinted>2000-02-22T20:50:18Z</cp:lastPrinted>
  <dcterms:modified xsi:type="dcterms:W3CDTF">2000-05-11T08:49:47Z</dcterms:modified>
  <cp:revision>17</cp:revision>
  <dc:subject/>
  <dc:title>No Slide Title</dc:title>
</cp:coreProperties>
</file>