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10375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FE6-F40D-4DB6-B5CB-A5EA8EE3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91440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5997600"/>
            <a:ext cx="91440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766-355E-4594-977A-6EAF2C77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42064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599760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599760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EC2-C8DF-464E-98C3-ECD0B43C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294408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420640"/>
            <a:ext cx="294408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420640"/>
            <a:ext cx="294408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5997600"/>
            <a:ext cx="294408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5997600"/>
            <a:ext cx="294408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5997600"/>
            <a:ext cx="294408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300-D638-4BEA-9A6D-AE9E9F8D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420640"/>
            <a:ext cx="9144000" cy="68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62A-DF4D-4A2F-AF78-2E7410D2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9144000" cy="68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FEC-0D5F-4449-9105-37AAB7C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4462200" cy="68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420640"/>
            <a:ext cx="4462200" cy="68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55E-1B44-4C78-B096-8D07F894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A22-ECD7-4795-B17E-334E63CF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415440"/>
            <a:ext cx="9144000" cy="80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DFA-BBF2-4780-B7DF-1C51860E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420640"/>
            <a:ext cx="4462200" cy="68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599760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4FA-1296-4B83-9591-1F8A497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4462200" cy="68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42064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599760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3FB-10CC-4AEC-9586-663E775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42064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420640"/>
            <a:ext cx="44622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5997600"/>
            <a:ext cx="9144000" cy="32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35E-C351-426E-BD51-BA13834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41544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420640"/>
            <a:ext cx="9144000" cy="68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9448920"/>
            <a:ext cx="2370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9448920"/>
            <a:ext cx="3216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9448920"/>
            <a:ext cx="2370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B15B-9176-4CDC-95A9-A779C7651F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160" y="2679840"/>
            <a:ext cx="10159920" cy="732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5560"/>
            <a:ext cx="1026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Database verbinding maken met Dream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76240"/>
            <a:ext cx="91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Eerst template downloaden en uitpak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102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http://www.oswd.org/design/preview/id/35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2760" y="2438280"/>
            <a:ext cx="6324480" cy="502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200" y="139680"/>
            <a:ext cx="96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De naam van de verbinding doet er niet to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960" y="838080"/>
            <a:ext cx="66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Kies je eigen gebruikersna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en database na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1800" y="2336760"/>
            <a:ext cx="4647960" cy="3975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440" y="33012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De tabellen komen tevoorschij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9360" y="1143000"/>
            <a:ext cx="90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Er is nu een verbinding met de data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95504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7320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63640" y="3378240"/>
            <a:ext cx="364500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58720"/>
            <a:ext cx="95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Doorloop de drie stappen rechts ondera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00" y="13716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Als je geen paneel Database zie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maak die dan zichtbaar via Ven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217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3692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217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2197080"/>
            <a:ext cx="4000680" cy="340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8280" y="533520"/>
            <a:ext cx="72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Klik op het plusje bij Data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ff"/>
                </a:solidFill>
                <a:latin typeface="Comic Sans MS - 36"/>
              </a:rPr>
              <a:t>om een database te ope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46101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3:13:56Z</dcterms:created>
  <dc:creator>pts</dc:creator>
  <dc:description/>
  <dc:language>en-US</dc:language>
  <cp:lastModifiedBy>pts</cp:lastModifiedBy>
  <dcterms:modified xsi:type="dcterms:W3CDTF">2010-06-28T13:13:58Z</dcterms:modified>
  <cp:revision>1</cp:revision>
  <dc:subject/>
  <dc:title>Dia 1</dc:title>
</cp:coreProperties>
</file>