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8470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00F-6778-4726-BB3A-DD915E59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3984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97604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8967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66B-FCEC-4D21-BD8B-B46B4DB5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3984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976040"/>
            <a:ext cx="446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976040"/>
            <a:ext cx="446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896720"/>
            <a:ext cx="446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896720"/>
            <a:ext cx="446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34E-1A6A-42FC-B2E5-5453E496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3984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976040"/>
            <a:ext cx="2944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976040"/>
            <a:ext cx="2944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976040"/>
            <a:ext cx="2944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896720"/>
            <a:ext cx="2944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896720"/>
            <a:ext cx="2944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896720"/>
            <a:ext cx="2944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83C-B929-477D-8D09-86AF83A6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3984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976040"/>
            <a:ext cx="914400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CD3-96A7-423F-8416-ED13637A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3984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976040"/>
            <a:ext cx="91440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D4F-A2F8-4F56-88EE-EFBDF6C0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3984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976040"/>
            <a:ext cx="44622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976040"/>
            <a:ext cx="44622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0B2-4947-4483-8EB4-C93BD042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3984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CBA-F397-4A38-9013-6E30C191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39840"/>
            <a:ext cx="9144000" cy="65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74A-4601-42F5-ADA2-8CD72917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3984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976040"/>
            <a:ext cx="446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976040"/>
            <a:ext cx="44622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896720"/>
            <a:ext cx="446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B8F-EFFB-4D8C-B72D-E74B4C52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3984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976040"/>
            <a:ext cx="44622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976040"/>
            <a:ext cx="446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896720"/>
            <a:ext cx="446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888-151A-404B-88BC-017E766A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3984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976040"/>
            <a:ext cx="446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976040"/>
            <a:ext cx="4462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8967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7F0-A96C-4A71-8F1B-31CCA05F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3984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976040"/>
            <a:ext cx="91440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713720"/>
            <a:ext cx="2370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713720"/>
            <a:ext cx="3216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713720"/>
            <a:ext cx="2370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1FB6-EA17-482D-BB68-593AE6E648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5240" y="673200"/>
            <a:ext cx="9994680" cy="648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480" y="12600"/>
            <a:ext cx="8327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500" spc="-1" strike="noStrike">
                <a:solidFill>
                  <a:srgbClr val="0000ff"/>
                </a:solidFill>
                <a:latin typeface="Comic Sans MS - 36"/>
              </a:rPr>
              <a:t>Workbench bestand inlezen via Plesk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73200"/>
            <a:ext cx="1015992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87375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73200"/>
            <a:ext cx="10159920" cy="6402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160"/>
            <a:ext cx="88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Ga naar https://ostrealyceum.net:84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589284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160" y="673200"/>
            <a:ext cx="1012176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1680" y="863640"/>
            <a:ext cx="655308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73200"/>
            <a:ext cx="1015992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8432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1680" y="863640"/>
            <a:ext cx="66546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73200"/>
            <a:ext cx="101599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08:08:06Z</dcterms:created>
  <dc:creator>pts</dc:creator>
  <dc:description/>
  <dc:language>en-US</dc:language>
  <cp:lastModifiedBy>pts</cp:lastModifiedBy>
  <dcterms:modified xsi:type="dcterms:W3CDTF">2010-06-28T08:08:07Z</dcterms:modified>
  <cp:revision>1</cp:revision>
  <dc:subject/>
  <dc:title>Dia 1</dc:title>
</cp:coreProperties>
</file>