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8675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6CF-FAE7-4A83-A19D-B54D0339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91440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014440"/>
            <a:ext cx="91440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1CC-9BE8-4288-8375-7A2F16A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01444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01444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D59-8C03-4968-9D68-07AA0F14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2392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2392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01444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01444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014440"/>
            <a:ext cx="294408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FF4-C2FC-4DEE-8E8A-24B62AF7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2392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C46-E393-434A-957D-4F45F0E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5F2-93FF-461D-8750-EB7D951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44622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23920"/>
            <a:ext cx="44622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DA8-D29A-47FD-91E7-17B163A0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91F-2B97-4368-99AA-7628ADA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7400"/>
            <a:ext cx="914400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DA-01D1-489F-B010-EED85465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23920"/>
            <a:ext cx="44622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01444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36F-9D72-495F-9FBC-66E4BAA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44622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01444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C30-E003-4B6C-B4E6-70C560B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23920"/>
            <a:ext cx="44622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014440"/>
            <a:ext cx="91440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F32-DA81-4867-A08F-AF7774D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740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2392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99120"/>
            <a:ext cx="23702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99120"/>
            <a:ext cx="32162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99120"/>
            <a:ext cx="23702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8E95-2AF0-4150-A0F9-906CD1219D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732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0"/>
            <a:ext cx="95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 - 36"/>
              </a:rPr>
              <a:t>Database maken met MySQL Workb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7416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7022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732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0760" y="21600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- 16"/>
              </a:rPr>
              <a:t>Zorg dat de database jouw naam he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6629400" cy="502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46240" y="2387520"/>
            <a:ext cx="60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Maak een tabel boek met de volgende vel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9296280" cy="330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7520" y="4533840"/>
            <a:ext cx="79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Ga naar EER Diagram en sleep de drie tabellen in het diagr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3437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3566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66038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1788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7:48:24Z</dcterms:created>
  <dc:creator>pts</dc:creator>
  <dc:description/>
  <dc:language>en-US</dc:language>
  <cp:lastModifiedBy>pts</cp:lastModifiedBy>
  <dcterms:modified xsi:type="dcterms:W3CDTF">2010-06-28T07:48:25Z</dcterms:modified>
  <cp:revision>1</cp:revision>
  <dc:subject/>
  <dc:title>Dia 1</dc:title>
</cp:coreProperties>
</file>