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EDD-1870-4497-8CF3-CFF9C83A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88A-F3BA-46BA-94D5-5FE981F5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D9D-70B7-4B68-A562-CD919A4B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0FF-CAC0-45EC-B3A0-090251E7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703-BFA9-4563-86D4-E9CDBB1E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E9B-8613-4EAE-85D9-65C9ABA5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164-1FF8-4DA6-918E-4F0B6225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84C-50DF-41F9-B8DB-5A58E548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C37-F425-40CF-9420-4AFB4581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489-140C-46C4-92A6-22703478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C29-CBE6-416B-A801-1AF3249B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26F-EB8A-4C41-9D4D-5C4CB74E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a72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3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3c9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7a7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3c9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7a7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3c9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7a72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3c9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7a72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3c9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3c9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3c9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09F1-A035-4479-B56C-2AB4FB4A16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115920"/>
            <a:ext cx="7056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530064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3c9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a7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2:55:28Z</dcterms:created>
  <dc:creator>Heidi</dc:creator>
  <dc:description/>
  <dc:language>en-US</dc:language>
  <cp:lastModifiedBy>Dian Verpaalen</cp:lastModifiedBy>
  <dcterms:modified xsi:type="dcterms:W3CDTF">2012-05-07T19:21:52Z</dcterms:modified>
  <cp:revision>26</cp:revision>
  <dc:subject/>
  <dc:title>Slide 1</dc:title>
</cp:coreProperties>
</file>