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276-B649-47B6-9C4A-542CFAF2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B64-CC88-4427-BEBF-81879ADA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0F2-E435-4B6C-BEB9-81325196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A7E-1BAD-4B73-AB7A-BB2D6558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E6E-78CD-47AA-A89E-30F8771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B47-23E0-4927-8207-D376337E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33C-7247-4186-9FB8-3DBB6DD2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BB5-B762-4F63-8065-6A8D59A6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0B4-0423-438E-823A-B5626AB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B2F-20B4-409B-9481-3B3B2B3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00E-648B-4AD6-86AF-47350D7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BE4-1B8F-42FB-9ADA-32398597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6F1-C1FE-4125-8E1B-22399FBD98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042920" y="522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workshop 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Unicode MS"/>
              </a:rPr>
              <a:t>14 mei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Unicode MS"/>
              </a:rPr>
              <a:t>Dian Verpaal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 Unicode MS"/>
              </a:rPr>
              <a:t>transmuraal diabetesverpleegkund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gra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ts om aanwezige kennis te toet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diabetes, behan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u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tocol insuline injecteren/bloedglucose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ef oefenen met pennen/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alu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2:55:28Z</dcterms:created>
  <dc:creator>Heidi</dc:creator>
  <dc:description/>
  <dc:language>en-US</dc:language>
  <cp:lastModifiedBy>Dian Verpaalen</cp:lastModifiedBy>
  <dcterms:modified xsi:type="dcterms:W3CDTF">2012-05-07T20:55:57Z</dcterms:modified>
  <cp:revision>15</cp:revision>
  <dc:subject/>
  <dc:title>Slide 1</dc:title>
</cp:coreProperties>
</file>